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1"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9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4"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5"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E964-AF32-487F-BD66-963BDEE72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DCC5-05CC-4B4D-BACB-84480EA86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5C45-A767-4C8A-A162-BE685A9F0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0CFF-9DE5-414C-8C52-D70BBBBF1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EC99-F151-4111-B0E9-A502FE263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A8FE-6B27-4C6F-BF15-DFB1F53A7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0F4A-296C-489A-AAD9-08CB0E2B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DDD66-7214-4B72-B6F5-DCDF4837BE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CB8DD-3319-4957-909C-521BF0C78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9BA7FE-BDB6-48B9-A676-56E3C223A4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DE2C1-179A-4548-96A1-4D78AA9AD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68B3A-9FBD-4396-8DFE-780ADE763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1CD2F8-59EF-4A44-9C37-5906D8B506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EE03D9-F0D6-41C9-933E-A2FC67A345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86255A-5342-434D-BD8D-706B644E0F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72D8BD-CA86-45D6-B221-9F86681426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17B1F8-9D6D-4FDF-9C18-12549587E4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A4AEF-2B91-4570-B641-48DECEE2D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89FA57-BF9F-4D67-92AE-9D690844F0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8AA9AF-AB20-4092-882B-24B790A3DE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5E7AC0-821A-42D0-80CE-0834E57238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06BEC5-7D14-403D-821C-1BD5F1BB99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D24484-BC49-41E0-A7BA-E90F054548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2CB6F4-4A14-4B0F-8744-067A3DF85B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D776F8-4455-4C80-B326-9676208ED8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6850A7-66C4-46BA-B99F-365DEBFEC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998EBD-1ACE-47B8-951D-D04835AEAC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80A5EF-E232-4C0E-B6BB-CC135571FE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47531-E358-450F-8A01-5F1E5CC20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7A7521-B9E3-4AD7-878B-2F9148E74F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3B3068F-8A31-4DE3-A76B-697D32CE136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B76221-583A-4BB3-951D-E2509AD848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9EB4A21-C8B2-47EA-A915-609AB398F6E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44EFE9E-4BB4-49B0-BE40-14709B35855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65E41B3-3899-4A2B-A114-4284BDAC660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F43BE9-F49C-4D44-91E5-CA33C61B04E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1A0FE2-8D74-47D9-B855-A0D3D82623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10909BF-E0DF-4681-9185-E6171009595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C74D9CE-1CA4-4A01-82B7-21D5522DF6F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09E2E-FC5D-4FE2-9F7F-DBA9362FD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BC6F3D4-4238-43C3-882F-20D22D3B31A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23C649C-88F5-46CB-9140-4E458754590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F3F35B0-9CFE-45BD-A82B-6CE39C16214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8E788C-EDFD-43A6-8579-B5136032D9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42D88B-CFF0-4142-A297-4F9A0BDB1A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09B8A2-0967-4609-8730-4AF8BA8275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614D3A-A6DE-45C5-8D34-6EEFC3F1EE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FF0AA2-E6DE-44BC-B3C7-3F9CBF082B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248D9C-75DF-46E9-BED9-C46C5AD26D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8EF1C9-27BB-4395-812D-335ECFD2D4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0BD25-7B2D-41F7-8149-7E701BB46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2A95A2-12A4-478D-8586-A1AAD7C98D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AADD6C-B433-4F33-A092-09BEB1856F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203973-47D7-4E0F-A91C-334F36C736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9B75E2-C347-4092-91FF-015F04DA3D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7A73E4-030F-4BD2-B752-D06293723F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110E2-4961-481D-885B-05ACFC5DC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DCF78-CF40-42C6-845E-97063DC9A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5797E-6346-40C9-BAD9-A055C46A0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65907-C6BB-461A-8FE2-7ABBBFF2F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C13D4-9D2A-48D4-A081-638DB2684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7250-0935-4A00-B52E-4BB9B558D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EF97D-1D44-4049-AF15-0D25C7907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9A728-42AA-407E-A1B7-377B991CD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816E2-D574-4D35-B1C9-BD395A6CE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987F0-3ABD-4223-9C9B-8622640B8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B6994-C8A0-48A9-A1CB-7683C36E8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F2743-0BE4-4215-87FC-94D88809AA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E3784-8771-41DF-85D1-8FF542697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EFBBC-EF1D-4B34-A105-B66CDD2A0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089D7-1781-4043-98CC-34CF712A0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20EDD-768F-4EC0-8C1C-B46DDC814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C3903-6989-486C-852F-330FA2954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F6E98-3DE3-466F-A25F-806CB6090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9BEE0-6DDC-4A1C-9ECE-0F97DEB50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46C2F-FA8B-43B1-8BA9-1D3880637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45193-62AC-491D-84CB-84096330A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9A19E-1F37-4B0B-B805-F1C2BF7CB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08A33E-C68E-4A02-871D-FA57CED62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F993D0-0543-43C3-9A1A-F041B16C2B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0A2ED-DEAF-40B2-A65D-51017EB061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13FA3-41C8-4799-9E7E-6C931F7D2B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B89C9-B428-4DF7-8027-2D25BDDBF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29D21-4969-4F69-8565-E3097BCF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6DC20-A725-471D-B60A-452D40275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3434D-B438-411F-93FA-FB436D2CC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DB51F-D363-4FB4-B7C2-C2F82F0E6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43945-68D2-46FA-A15C-7397165C1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D7CB6-5D5B-4752-85CE-09E427F8E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C2F8C-7468-431D-B163-52F8CD9A2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143D0-8B7F-4A10-86F2-A162BCCF0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719A1-4E7F-4815-BA9A-672FA69505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8BB145-7A0A-4406-840A-6247064129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139F53-3817-48AF-AE9D-BF715DF396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52F5C-30A0-4425-AEAB-AFA991E59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3ABBF-61CB-4041-9CA5-E6442D39F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ED8F9-B4F0-4544-92A5-155B3FDDC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68BA19-2FC2-4426-97D6-85F6FA0A28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D442D-1C1D-4DFD-906E-AF5B959E3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7A4D3-F217-43D8-AE59-AA1ED7162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EF2750-DC27-446A-A561-35793CBEE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76A09-779E-494E-92BB-5A2C42A37E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C17CF-18D2-44F9-9BD1-0D4213B50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D495D-2B7D-4C0C-BBAB-7E18F1CB34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8ADBF-1851-45CD-870F-380A8D7246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90276-0A7B-4FB0-80B5-B05934FA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59DCA-1481-4A4A-BCE0-6476AA0F8A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F10441-3EAC-4B48-B7B3-1456E7F7DD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E86F34-299D-400A-9E88-206276AB1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4B3CD-1B1A-4429-BFAE-0FCF05FA2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ED2D8-E900-4A5D-BF77-89CCA72ACD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DC076-5DC9-4671-8AB3-9427866E1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C25EA7-DC09-490D-B92F-E0BA726C75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212CCB-6E24-4778-B369-AB103E599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2EDA58-AF29-4B2E-B696-74FC275C9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2A99D-5104-4BA8-8918-02D4B45E7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D881-6F1C-4D72-A513-0B9BCDE4B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95C19B-D022-41EC-BD60-5FB2C7D9D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5BDC0-3BA0-432E-99BB-48DE8B71E9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434216-897C-48CA-94A6-D77724CB9F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76A2F6B-A88B-464A-A926-F8F1D2883B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75B12BC-5182-4B00-9BBE-40D78D6849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F7534FD-2FE1-4F5D-ACC8-01A00E6539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46C81AD-4265-4518-AE8E-C1B7EC1B9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813FF6-6CBE-4207-ACE4-0515EE4488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719FD24-F161-4F87-8208-8AD0640D3A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1C3A51-B1C9-42D1-BC4E-AD06DB916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A078-364B-45DD-88A4-D87C6F50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D11472-1EF8-4710-8405-296CDC5746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1025699-7646-4D07-8C04-D6818E6E7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A31CF33-B7A3-4913-ACE3-0EF05708C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FCCA218-6C12-4D4E-8999-5A5C98699C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7C921CA-E960-42E6-8AD7-AD32A4CE82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021EC7-6911-4263-B5CC-BC1800E47B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8090D-A403-48AF-927F-843C653C6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FEEC76-F8B7-4134-84C4-49AF12D9A9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EDFD89-F371-49EA-9329-92A271DB9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93D02-8D88-4724-BDAF-0FD63E241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BEDA-D7DD-44F2-A89C-BF8C8732D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A9646-81DC-4F61-812F-3D1704A43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BB98A-06F2-4243-9FE5-60C5C3B477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CD57B-DA56-4DC0-8D08-CED7406A8B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D031C-2098-4F3F-AE0A-6CA266DA73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33BAB-ABC5-4E62-AE91-B156F10F0F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1A1CE5-9AB0-4BA6-939D-09C6327800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8BBC71-CE6F-448B-A570-1BDE570C57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63FEB2-A008-4DF8-8BD5-7393ADB3A4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225FE-0ABF-40E5-B5DD-966D628B6E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619388-C26E-4793-8888-46657E895B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908E-DA70-461E-B824-ABC65295A6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31" name="Group 2"/>
          <p:cNvGrpSpPr/>
          <p:nvPr/>
        </p:nvGrpSpPr>
        <p:grpSpPr>
          <a:xfrm>
            <a:off x="3800520" y="1789200"/>
            <a:ext cx="5348160" cy="5056200"/>
            <a:chOff x="3800520" y="1789200"/>
            <a:chExt cx="5348160" cy="5056200"/>
          </a:xfrm>
        </p:grpSpPr>
        <p:sp>
          <p:nvSpPr>
            <p:cNvPr id="73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8" name="PlaceHolder 3"/>
          <p:cNvSpPr>
            <a:spLocks noGrp="1"/>
          </p:cNvSpPr>
          <p:nvPr>
            <p:ph type="dt" idx="28"/>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4"/>
          <p:cNvSpPr>
            <a:spLocks noGrp="1"/>
          </p:cNvSpPr>
          <p:nvPr>
            <p:ph type="ftr" idx="29"/>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PlaceHolder 5"/>
          <p:cNvSpPr>
            <a:spLocks noGrp="1"/>
          </p:cNvSpPr>
          <p:nvPr>
            <p:ph type="sldNum" idx="30"/>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6A2A-21D3-4F8D-AD02-64AA8F3F8125}" type="slidenum">
              <a:rPr b="0" lang="en-A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7"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0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D430-EEA3-453B-887E-B57CB6F794DA}"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812"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49" name="Group 2"/>
          <p:cNvGrpSpPr/>
          <p:nvPr/>
        </p:nvGrpSpPr>
        <p:grpSpPr>
          <a:xfrm>
            <a:off x="0" y="0"/>
            <a:ext cx="9140760" cy="6850080"/>
            <a:chOff x="0" y="0"/>
            <a:chExt cx="9140760" cy="6850080"/>
          </a:xfrm>
        </p:grpSpPr>
        <p:grpSp>
          <p:nvGrpSpPr>
            <p:cNvPr id="850" name="Group 3"/>
            <p:cNvGrpSpPr/>
            <p:nvPr/>
          </p:nvGrpSpPr>
          <p:grpSpPr>
            <a:xfrm>
              <a:off x="2743200" y="3540240"/>
              <a:ext cx="6392880" cy="3309840"/>
              <a:chOff x="2743200" y="3540240"/>
              <a:chExt cx="6392880" cy="3309840"/>
            </a:xfrm>
          </p:grpSpPr>
          <p:sp>
            <p:nvSpPr>
              <p:cNvPr id="851"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6"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60" name="PlaceHolder 3"/>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PlaceHolder 4"/>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PlaceHolder 5"/>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E27C-C4DE-424C-A2A7-9E686EF97ABA}" type="slidenum">
              <a:rPr b="0" lang="en-AU"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27778-EA89-4301-8460-337C81E8579F}" type="slidenum">
              <a:rPr b="0" lang="en-AU"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82" name="Group 2"/>
          <p:cNvGrpSpPr/>
          <p:nvPr/>
        </p:nvGrpSpPr>
        <p:grpSpPr>
          <a:xfrm>
            <a:off x="3600" y="1422360"/>
            <a:ext cx="9143640" cy="5435640"/>
            <a:chOff x="3600" y="1422360"/>
            <a:chExt cx="9143640" cy="5435640"/>
          </a:xfrm>
        </p:grpSpPr>
        <p:grpSp>
          <p:nvGrpSpPr>
            <p:cNvPr id="83" name="Group 3"/>
            <p:cNvGrpSpPr/>
            <p:nvPr/>
          </p:nvGrpSpPr>
          <p:grpSpPr>
            <a:xfrm>
              <a:off x="31680" y="1422360"/>
              <a:ext cx="9115560" cy="5435640"/>
              <a:chOff x="31680" y="1422360"/>
              <a:chExt cx="9115560" cy="5435640"/>
            </a:xfrm>
          </p:grpSpPr>
          <p:sp>
            <p:nvSpPr>
              <p:cNvPr id="8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7"/>
            <p:cNvGrpSpPr/>
            <p:nvPr/>
          </p:nvGrpSpPr>
          <p:grpSpPr>
            <a:xfrm>
              <a:off x="3600" y="3639960"/>
              <a:ext cx="2193840" cy="2694240"/>
              <a:chOff x="3600" y="3639960"/>
              <a:chExt cx="2193840" cy="2694240"/>
            </a:xfrm>
          </p:grpSpPr>
          <p:sp>
            <p:nvSpPr>
              <p:cNvPr id="9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C1F3-A00D-434C-9E23-F47A37EADD1F}" type="slidenum">
              <a:rPr b="0" lang="en-AU"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74" name="Group 2"/>
          <p:cNvGrpSpPr/>
          <p:nvPr/>
        </p:nvGrpSpPr>
        <p:grpSpPr>
          <a:xfrm>
            <a:off x="318960" y="1828800"/>
            <a:ext cx="8825040" cy="5029200"/>
            <a:chOff x="318960" y="1828800"/>
            <a:chExt cx="8825040" cy="5029200"/>
          </a:xfrm>
        </p:grpSpPr>
        <p:sp>
          <p:nvSpPr>
            <p:cNvPr id="275"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3" name="PlaceHolder 1"/>
          <p:cNvSpPr>
            <a:spLocks noGrp="1"/>
          </p:cNvSpPr>
          <p:nvPr>
            <p:ph type="dt" idx="10"/>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type="ftr" idx="11"/>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C462-0DB0-4E22-B24C-9FCEBE26B937}"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8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8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800520" y="1789200"/>
            <a:ext cx="5348160" cy="5056200"/>
            <a:chOff x="3800520" y="1789200"/>
            <a:chExt cx="5348160" cy="5056200"/>
          </a:xfrm>
        </p:grpSpPr>
        <p:sp>
          <p:nvSpPr>
            <p:cNvPr id="325"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1"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12A4-D676-40C2-B635-86C2D7F39B87}" type="slidenum">
              <a:rPr b="0" lang="en-A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0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0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CAB1-6A13-4662-AAA8-B30526BE3072}"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PlaceHolder 1"/>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4527-6AB6-46AD-A478-D44191509BE1}" type="slidenum">
              <a:rPr b="0" lang="en-AU"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grpSp>
        <p:nvGrpSpPr>
          <p:cNvPr id="443" name="Group 4"/>
          <p:cNvGrpSpPr/>
          <p:nvPr/>
        </p:nvGrpSpPr>
        <p:grpSpPr>
          <a:xfrm>
            <a:off x="0" y="0"/>
            <a:ext cx="9140760" cy="6850080"/>
            <a:chOff x="0" y="0"/>
            <a:chExt cx="9140760" cy="6850080"/>
          </a:xfrm>
        </p:grpSpPr>
        <p:grpSp>
          <p:nvGrpSpPr>
            <p:cNvPr id="444" name="Group 5"/>
            <p:cNvGrpSpPr/>
            <p:nvPr/>
          </p:nvGrpSpPr>
          <p:grpSpPr>
            <a:xfrm>
              <a:off x="2743200" y="3540240"/>
              <a:ext cx="6392880" cy="3309840"/>
              <a:chOff x="2743200" y="3540240"/>
              <a:chExt cx="6392880" cy="3309840"/>
            </a:xfrm>
          </p:grpSpPr>
          <p:sp>
            <p:nvSpPr>
              <p:cNvPr id="445"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0"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3" name="PlaceHolder 4"/>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491" name="Group 2"/>
          <p:cNvGrpSpPr/>
          <p:nvPr/>
        </p:nvGrpSpPr>
        <p:grpSpPr>
          <a:xfrm>
            <a:off x="3600" y="1422360"/>
            <a:ext cx="9143640" cy="5435640"/>
            <a:chOff x="3600" y="1422360"/>
            <a:chExt cx="9143640" cy="5435640"/>
          </a:xfrm>
        </p:grpSpPr>
        <p:grpSp>
          <p:nvGrpSpPr>
            <p:cNvPr id="492" name="Group 3"/>
            <p:cNvGrpSpPr/>
            <p:nvPr/>
          </p:nvGrpSpPr>
          <p:grpSpPr>
            <a:xfrm>
              <a:off x="31680" y="1422360"/>
              <a:ext cx="9115560" cy="5435640"/>
              <a:chOff x="31680" y="1422360"/>
              <a:chExt cx="9115560" cy="5435640"/>
            </a:xfrm>
          </p:grpSpPr>
          <p:sp>
            <p:nvSpPr>
              <p:cNvPr id="493"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6" name="Group 17"/>
            <p:cNvGrpSpPr/>
            <p:nvPr/>
          </p:nvGrpSpPr>
          <p:grpSpPr>
            <a:xfrm>
              <a:off x="3600" y="3639960"/>
              <a:ext cx="2193840" cy="2694240"/>
              <a:chOff x="3600" y="3639960"/>
              <a:chExt cx="2193840" cy="2694240"/>
            </a:xfrm>
          </p:grpSpPr>
          <p:sp>
            <p:nvSpPr>
              <p:cNvPr id="507"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4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4" name="PlaceHolder 3"/>
          <p:cNvSpPr>
            <a:spLocks noGrp="1"/>
          </p:cNvSpPr>
          <p:nvPr>
            <p:ph type="dt" idx="22"/>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PlaceHolder 5"/>
          <p:cNvSpPr>
            <a:spLocks noGrp="1"/>
          </p:cNvSpPr>
          <p:nvPr>
            <p:ph type="sldNum" idx="24"/>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728D-29E5-4A95-A231-44C4686FD2E3}" type="slidenum">
              <a:rPr b="0" lang="en-AU" sz="1000" spc="-1" strike="noStrike">
                <a:solidFill>
                  <a:srgbClr val="000000"/>
                </a:solidFill>
                <a:latin typeface="Tahom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83" name="Group 2"/>
          <p:cNvGrpSpPr/>
          <p:nvPr/>
        </p:nvGrpSpPr>
        <p:grpSpPr>
          <a:xfrm>
            <a:off x="318960" y="1752480"/>
            <a:ext cx="8825040" cy="5129280"/>
            <a:chOff x="318960" y="1752480"/>
            <a:chExt cx="8825040" cy="5129280"/>
          </a:xfrm>
        </p:grpSpPr>
        <p:sp>
          <p:nvSpPr>
            <p:cNvPr id="684"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91"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2" name="PlaceHolder 3"/>
          <p:cNvSpPr>
            <a:spLocks noGrp="1"/>
          </p:cNvSpPr>
          <p:nvPr>
            <p:ph type="dt" idx="25"/>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PlaceHolder 4"/>
          <p:cNvSpPr>
            <a:spLocks noGrp="1"/>
          </p:cNvSpPr>
          <p:nvPr>
            <p:ph type="ftr" idx="26"/>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PlaceHolder 5"/>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A767-EABA-4AD0-BFDE-3D8D8E65A1FA}" type="slidenum">
              <a:rPr b="0" lang="en-AU"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Text Box 4"/>
          <p:cNvSpPr/>
          <p:nvPr/>
        </p:nvSpPr>
        <p:spPr>
          <a:xfrm>
            <a:off x="900000" y="620640"/>
            <a:ext cx="7315200" cy="5730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Arial"/>
              </a:rPr>
              <a:t>Introduction to the Nervous System</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Nervous System consists of the brain, spinal cord and thousands of nerve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Brain and Spinal Cord are collectively known as the Central Nervous System.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 Peripheral Nervous System is the collective term for all nerves outside the brain and spinal c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ext Box 4"/>
          <p:cNvSpPr/>
          <p:nvPr/>
        </p:nvSpPr>
        <p:spPr>
          <a:xfrm>
            <a:off x="914400" y="762120"/>
            <a:ext cx="7467480" cy="5879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Functions of the Nervous Syst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general function of the nervous system is to allow the organism to respond to stimuli.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Stimulus is any change in the environment of the organism. The nervous system will then induce a response, which may be movement, speech, blinking etc.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anced organisms have specialised sense organs, which are designed to react to stimuli.These are often called receptors and are sensitive to one stimuli (e.g. Skin to touch, eyes to light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7">
                                            <p:txEl>
                                              <p:pRg st="2" end="2"/>
                                            </p:txEl>
                                          </p:spTgt>
                                        </p:tgtEl>
                                        <p:attrNameLst>
                                          <p:attrName>style.visibility</p:attrName>
                                        </p:attrNameLst>
                                      </p:cBhvr>
                                      <p:to>
                                        <p:strVal val="visible"/>
                                      </p:to>
                                    </p:set>
                                    <p:animEffect filter="blinds(horizontal)" transition="in">
                                      <p:cBhvr additive="repl">
                                        <p:cTn id="7" dur="500"/>
                                        <p:tgtEl>
                                          <p:spTgt spid="90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07">
                                            <p:txEl>
                                              <p:pRg st="3" end="3"/>
                                            </p:txEl>
                                          </p:spTgt>
                                        </p:tgtEl>
                                        <p:attrNameLst>
                                          <p:attrName>style.visibility</p:attrName>
                                        </p:attrNameLst>
                                      </p:cBhvr>
                                      <p:to>
                                        <p:strVal val="visible"/>
                                      </p:to>
                                    </p:set>
                                    <p:animEffect filter="blinds(horizontal)" transition="in">
                                      <p:cBhvr additive="repl">
                                        <p:cTn id="12" dur="500"/>
                                        <p:tgtEl>
                                          <p:spTgt spid="9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8" name="Picture 4" descr="Nervou1"/>
          <p:cNvPicPr/>
          <p:nvPr/>
        </p:nvPicPr>
        <p:blipFill>
          <a:blip r:embed="rId1"/>
          <a:stretch/>
        </p:blipFill>
        <p:spPr>
          <a:xfrm>
            <a:off x="2679840" y="304920"/>
            <a:ext cx="383040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Text Box 4"/>
          <p:cNvSpPr/>
          <p:nvPr/>
        </p:nvSpPr>
        <p:spPr>
          <a:xfrm>
            <a:off x="1066680" y="990720"/>
            <a:ext cx="7010640" cy="4582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Reacting to Stimul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a receptor is exposed to a stimulus, an electronic impulse is sent to the central nervous system via nerves.The brain then analyses the message and based on experiences / memory, the brain sends out a suitable response back to an effector (muscle) via nerve fibres. When the nerve impulse reaches the effector muscle it contracts according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 Box 4"/>
          <p:cNvSpPr/>
          <p:nvPr/>
        </p:nvSpPr>
        <p:spPr>
          <a:xfrm>
            <a:off x="990720" y="6094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314"/>
                </a:solidFill>
                <a:latin typeface="Arial"/>
              </a:rPr>
              <a:t>Neurons or Nerve Cells</a:t>
            </a:r>
            <a:endParaRPr b="0" lang="en-US" sz="2400" spc="-1" strike="noStrike">
              <a:solidFill>
                <a:srgbClr val="000000"/>
              </a:solidFill>
              <a:latin typeface="Arial"/>
            </a:endParaRPr>
          </a:p>
        </p:txBody>
      </p:sp>
      <p:pic>
        <p:nvPicPr>
          <p:cNvPr id="911" name="Picture 5" descr="Nervou2"/>
          <p:cNvPicPr/>
          <p:nvPr/>
        </p:nvPicPr>
        <p:blipFill>
          <a:blip r:embed="rId1"/>
          <a:stretch/>
        </p:blipFill>
        <p:spPr>
          <a:xfrm>
            <a:off x="2978280" y="0"/>
            <a:ext cx="5110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4"/>
          <p:cNvSpPr/>
          <p:nvPr/>
        </p:nvSpPr>
        <p:spPr>
          <a:xfrm>
            <a:off x="685800" y="380880"/>
            <a:ext cx="792468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re are three types of nerve cells of which two are important to u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Sensory Neurons</a:t>
            </a:r>
            <a:r>
              <a:rPr b="1" lang="en-US" sz="2400" spc="-1" strike="noStrike">
                <a:solidFill>
                  <a:srgbClr val="000000"/>
                </a:solidFill>
                <a:latin typeface="Arial"/>
                <a:ea typeface="Arial"/>
              </a:rPr>
              <a:t> move from the receptor to the Central Nervous Sy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Motor Neurons</a:t>
            </a:r>
            <a:r>
              <a:rPr b="1" lang="en-US" sz="2400" spc="-1" strike="noStrike">
                <a:solidFill>
                  <a:srgbClr val="000000"/>
                </a:solidFill>
                <a:latin typeface="Arial"/>
                <a:ea typeface="Arial"/>
              </a:rPr>
              <a:t> move from the Central Nervous System to the effector musc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ovement of the message in neurons is based on Electro-chemical conduction. This is similar to electricity in wires but much sl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side nerve cells the impulse moves quite fast but the message must also move out of one cell and into another. This is slow and is based on charged ions (Atoms with extra or missing electr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Text Box 4"/>
          <p:cNvSpPr/>
          <p:nvPr/>
        </p:nvSpPr>
        <p:spPr>
          <a:xfrm>
            <a:off x="685800" y="175248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is is why elements like Chlorine, Magnesium, Sodium and Potassium are important in the diet of animals. When these elements are not available, the effector muscles will not react as required and will cramp.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r example, low Mg with cause muscle spas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4"/>
          <p:cNvSpPr/>
          <p:nvPr/>
        </p:nvSpPr>
        <p:spPr>
          <a:xfrm>
            <a:off x="611280" y="436680"/>
            <a:ext cx="8001000" cy="6463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The Reflex Arc</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reflex is the simplest form of response to a stimulus. The most common reflex is the knee jerk. In a reflex reaction, the response occurs before the message reaches the brain, or the message may not reach the brain at all.</a:t>
            </a:r>
            <a:r>
              <a:rPr b="1" lang="en-US" sz="2400" spc="-1" strike="noStrike">
                <a:solidFill>
                  <a:srgbClr val="00117c"/>
                </a:solidFill>
                <a:latin typeface="Arial"/>
                <a:ea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s is because of the reflex arc!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receptor cell sends an impulse through a sensory neuron to the spinal cord. The message doesn’t go directly to the brain but to the cell body of a motor neuron and then to the muscle. The muscle contra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brain may get the message soon after. In reflexes, the impulse is not related to stored information in the brain before the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5" name="Picture 4" descr="Nervou3"/>
          <p:cNvPicPr/>
          <p:nvPr/>
        </p:nvPicPr>
        <p:blipFill>
          <a:blip r:embed="rId1"/>
          <a:stretch/>
        </p:blipFill>
        <p:spPr>
          <a:xfrm>
            <a:off x="380880" y="939960"/>
            <a:ext cx="8382240" cy="49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4:46:38Z</dcterms:created>
  <dc:creator>DE&amp;T user</dc:creator>
  <dc:description/>
  <dc:language>en-US</dc:language>
  <cp:lastModifiedBy>Lyn Clarkson</cp:lastModifiedBy>
  <dcterms:modified xsi:type="dcterms:W3CDTF">2008-07-23T03:04:19Z</dcterms:modified>
  <cp:revision>5</cp:revision>
  <dc:subject/>
  <dc:title>PowerPoint Presentation</dc:title>
</cp:coreProperties>
</file>